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21BDE-08D1-444C-BCE9-2C4B1ACAD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A2262-A77F-4F0A-88DD-F6EE605C3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1D881-B307-41E7-A843-06FB5800F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A51B3-A91F-4267-8DF9-17BE9B71C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83011-D4F4-4ECD-B4B5-657602937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40C0E-9EB7-439B-A691-F8493793D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B5794-E222-4F50-B6D2-2159EA529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AA784-B543-4EB4-B24E-94F6E8BD7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7DF95-D77E-4457-B116-4E7D4539B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90E4D-F0A3-4AB3-AFE1-E6C6D0451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37810-6DA6-451B-B95D-23F62741F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2422B-A24C-4D68-836B-B176F94AA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2B3C5-8E6C-47AA-92F7-7BF3A67AA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111BF-2241-418D-805B-2E936D293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7B725-5618-4F97-9462-0E8E1BD79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E3C4B-6D4F-41CF-B20D-0AD847D8B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1FBEB-2D2C-4210-97FE-8B9D7F694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962B3-6554-4F81-A0A5-FEC21CE7F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95BDD-56AE-4BF6-812D-5928B29EF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271BA-C723-498E-9B1E-723F9F75C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33288-0AE2-42F1-B47E-E29470E13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96DB9-9521-4CFD-9C3B-D489A367E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2F3EF-9DAC-4A3C-A4F9-51C4F8CB7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5F123-A4A3-45CF-842E-46B871936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7BEA4-B65C-41FC-B0FC-175598E7DA6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A655E-4AA6-417C-B50D-36E6D690B03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roblem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990720" y="2437920"/>
            <a:ext cx="64008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ow can they gain enough money for the renovation of their kitche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y are from India and they lack resources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21</a:t>
            </a:r>
            <a:r>
              <a:rPr b="0" lang="en-US" sz="3800" spc="-1" strike="noStrike" baseline="30000">
                <a:solidFill>
                  <a:srgbClr val="000000"/>
                </a:solidFill>
                <a:latin typeface="Verdana"/>
              </a:rPr>
              <a:t>st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 Century Skills</a:t>
            </a:r>
            <a:br>
              <a:rPr sz="3800"/>
            </a:b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66320" y="274320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roblem Identification, Formulation, and Solu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lf-Dir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olu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320" y="274320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y need to provide a program for them to be able to monitor their expens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7T21:17:58Z</dcterms:created>
  <dc:creator>madrid</dc:creator>
  <dc:description/>
  <dc:language>en-US</dc:language>
  <cp:lastModifiedBy>madrid</cp:lastModifiedBy>
  <dcterms:modified xsi:type="dcterms:W3CDTF">2012-06-27T21:59:19Z</dcterms:modified>
  <cp:revision>2</cp:revision>
  <dc:subject/>
  <dc:title>Problem: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7</vt:r8>
  </property>
</Properties>
</file>